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EC8B-9379-479F-A63E-98BC3A9E3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872E-395F-4741-A5EF-99FBE128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B00B-5DFD-4BFF-BD8B-B2D7FE836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D397-2C11-45B4-8BF7-A8ACFEFE7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17A6-368E-4F3A-B9BF-010C07BF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BEAF-DF8E-4840-96DF-749F83F4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5AAC-65B2-4662-8B36-09F6D1F4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F407-6595-4FEF-8BC3-746600CD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FD4F-EABA-4C09-8315-51D3AB96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9AE3-7B9E-4BEF-B384-8A68ABA8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2359-7151-4DC7-8B27-F766626F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2D03-8F07-4BAC-B22B-7E4C49DE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1019-35BE-459F-B183-AA4B5886D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ework to do over in grou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p. 207 #2-26 every other even</a:t>
            </a:r>
            <a:br>
              <a:rPr sz="2000"/>
            </a:b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p. 208 # 50</a:t>
            </a:r>
            <a:br>
              <a:rPr sz="2000"/>
            </a:b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p. 213 #2-26 every other even</a:t>
            </a:r>
            <a:br>
              <a:rPr sz="2000"/>
            </a:b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p. 214 #52 – 56 e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00200" y="33526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Review d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4360" y="379800"/>
            <a:ext cx="766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son 4.9  - Scientific 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 1: Writing and Evaluating Scientific 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 2: Calculating with Scientific 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763120" cy="2735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48320" y="31240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32004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52680" y="40384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4038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88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2971800"/>
            <a:ext cx="8915400" cy="1525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80880" y="5334120"/>
            <a:ext cx="6629400" cy="552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90720" y="16765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3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72200" y="16765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.00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90920" y="472428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6.3 x 10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7400" y="60958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3.7 x 10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86800" cy="1073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66680" y="1600200"/>
            <a:ext cx="77724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6.02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(1.67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2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6.02 x 1.67 = 10.1           *Multiply the numbers out 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99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 x 10</a:t>
            </a:r>
            <a:r>
              <a:rPr b="0" lang="en-US" sz="1800" spc="-1" strike="noStrike" baseline="30000">
                <a:solidFill>
                  <a:srgbClr val="009900"/>
                </a:solidFill>
                <a:latin typeface="Arial"/>
              </a:rPr>
              <a:t>-27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9900"/>
                </a:solidFill>
                <a:latin typeface="Arial"/>
              </a:rPr>
              <a:t>-4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            * Multiply the powers of 10…add the ex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10.1 x 10</a:t>
            </a:r>
            <a:r>
              <a:rPr b="0" lang="en-US" sz="1800" spc="-1" strike="noStrike" baseline="30000">
                <a:solidFill>
                  <a:srgbClr val="0033cc"/>
                </a:solidFill>
                <a:latin typeface="Arial"/>
              </a:rPr>
              <a:t>-4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                      *Com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01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* Re-write in scientific 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077320" cy="6185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219320" y="13716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5.45 x 10</a:t>
            </a:r>
            <a:r>
              <a:rPr b="0" lang="en-US" sz="1600" spc="-1" strike="noStrike" baseline="30000">
                <a:solidFill>
                  <a:srgbClr val="ff0066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13716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2.1 x 10</a:t>
            </a:r>
            <a:r>
              <a:rPr b="0" lang="en-US" sz="1600" spc="-1" strike="noStrike" baseline="30000">
                <a:solidFill>
                  <a:srgbClr val="ff0066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24382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32,1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24382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.0000000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32004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5.68 x 10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2578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.002 x 10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4273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920" y="51055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Homework: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p. 219  #2 – 30 every other even and p.220 #40 – 46 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94360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Test in a few days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20:02:01Z</dcterms:created>
  <dc:creator>Susannah Graham</dc:creator>
  <dc:description/>
  <dc:language>en-US</dc:language>
  <cp:lastModifiedBy>grahams</cp:lastModifiedBy>
  <dcterms:modified xsi:type="dcterms:W3CDTF">2011-12-14T14:33:43Z</dcterms:modified>
  <cp:revision>3</cp:revision>
  <dc:subject/>
  <dc:title>Homework to do over in groups  p. 207 #2-26 every other even p. 208 # 50 p. 213 #2-26 every other even p. 214 #52 – 56 even</dc:title>
</cp:coreProperties>
</file>